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A57-ED23-4C14-B91E-F234B709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A24-3513-4CE9-B179-B27F3090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CF9-5DDD-45CC-B100-D8F07135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2A1-DA7B-4A63-A9D2-D210496F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30CD-FAED-45E6-BA3C-39DBB469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A420-1E14-4612-8528-FEF48403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2344-B25F-489B-9C13-4EC21443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7784-0F0E-493E-A207-09FC2692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2F75-EBCE-4CB4-8524-109FF17E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0A7E-E404-4A19-A8E3-BECBEC50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D1DC-8ACB-4B28-9832-90F68A9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755-BAFE-432E-A888-EB1B314D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FDBE-787E-4A46-89AE-1D5B1CC7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A5D4-E016-4112-8BA3-9E84C6BC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A555-EB35-491A-80AC-288B8019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7A73-A3EC-48B5-B77A-C07DB6F7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99F3-4B3E-4C01-8FB5-A929FD3A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262-6C52-474E-B95F-6CF5961C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24F-46C0-4F97-8A2C-BA8C7B62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E26-956F-449B-9322-8D07D917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FB4-551A-49A3-8FA1-0E3010A2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F91-D498-4962-A326-AD1D429D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877-8B0D-44BA-B86C-3B54E249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918-C0F7-41A3-9E65-BC68FF7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9ACD-B785-47AF-A42F-DEC1FAB3C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FF46-3433-4847-AA8B-32E10EE48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Ecce 6 – Early In The Day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 this chapter, we see the parents for the first time and also learn about the lives of slaves.  We also see Cornelia moving from the life of a carefree young girl to her preparation for her future role as a wealthy wif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relia Corneliam docet villam curare.  Ancillae villam purgant, cibum coquun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am trahunt.  Reprehendunt Aurelia ancillas si ignavae sunt.  Matrem observa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Cornel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omnia quae mater facit facere par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Matrem adiuvare vult, sed ipsa neque servum ne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illam reprehendit.  Servi et ancillae nunc strenue laborant.  Necesse est neque serv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que ancillam reprehend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7. Quid Cornelia facere par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Cornelia omnia quae mater facit facere par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relia Corneliam docet villam curare.  Ancillae villam purgant, cibum coquun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am trahunt.  Reprehendunt Aurelia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ancillas si ignavae su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Matrem observat Cornelia 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a quae mater facit facere parat.  Matrem adiuvare vult, sed ipsa neque servum ne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illam reprehendit.  Servi et ancillae nunc strenue laborant.  Necesse est neque serv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que ancillam reprehend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8. Quid Cornelia non fac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nelia neque villam purgat ne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ancilla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hendi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si ignavae sun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Copy each sentence with the correct 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Ī 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  <a:ea typeface="Tahoma"/>
              </a:rPr>
              <a:t>IN VĪLL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HABITAT  /  HABI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Ī 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  <a:ea typeface="Tahoma"/>
              </a:rPr>
              <a:t>IN VĪLL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HABITA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  <a:ea typeface="Tahoma"/>
              </a:rPr>
              <a:t>IN AGRĪ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LABŌ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US / SERV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  <a:ea typeface="Tahoma"/>
              </a:rPr>
              <a:t>IN AGRĪ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LABŌ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DĀV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US / SERV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  <a:ea typeface="Tahoma"/>
              </a:rPr>
              <a:t>BRITANNIC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DĀV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US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  <a:ea typeface="Tahoma"/>
              </a:rPr>
              <a:t>BRITANNIC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PA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 SERVUS / SERVUM )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REPREHENDI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PAT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RVU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REPREHEND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ANCILLAE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  <a:ea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(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UM / SERV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)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  <a:ea typeface="Tahoma"/>
              </a:rPr>
              <a:t>DĒFESSĪ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SU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ANCILLAE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  <a:ea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SERV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  <a:ea typeface="Tahoma"/>
              </a:rPr>
              <a:t>DĒFESSĪ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SUN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9cb5"/>
                </a:solidFill>
                <a:latin typeface="Tahoma"/>
              </a:rPr>
              <a:t>IMPERSONAL VERBAL PHRASES</a:t>
            </a:r>
            <a:r>
              <a:rPr b="0" lang="en-US" sz="2400" spc="-1" strike="noStrike">
                <a:solidFill>
                  <a:srgbClr val="7b9cb5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1400" spc="-1" strike="noStrike">
                <a:solidFill>
                  <a:srgbClr val="7b9cb5"/>
                </a:solidFill>
                <a:latin typeface="Tahoma"/>
              </a:rPr>
              <a:t>Supply any direct object from Chapters 1-6 to each sentence and translate each sentence into English.</a:t>
            </a:r>
            <a:r>
              <a:rPr b="0" lang="en-US" sz="4000" spc="-1" strike="noStrike">
                <a:solidFill>
                  <a:srgbClr val="7b9cb5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matrem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______________ AM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OBSERV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PŪRG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VEX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TERRĒ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ASCEND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REPELLE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PET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ADIUV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NECESSE EST _____________________________ PORTĀ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Ecce 6 – Early In The Day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Principal Parts and English Derivatives—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ter, patris, m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ter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ibus, cibī, m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ibopho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āter, mātris, f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tri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qua, aquae, f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queo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  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Ecce 6 – Early In The Day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rincipal Parts and English Derivatives--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erb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ortō, -āre, -āvī, -ā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ūrgō, -āre, -āvī, -ā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urg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quō, coquere, coxī, coc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onco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diuvō, -āre, adiūvī, adiū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djuv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ūcet, lūcēre, luxi, _____ (impersonal verb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uxur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urgō, surgere, surrēxī, surrectūr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sur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ūrō, -āre, -āvī, -ā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cu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oceō, docēre, docuī, doc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ndoctr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bservō, -āre, -āvī, -ātu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bserv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    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9cb5"/>
                </a:solidFill>
                <a:latin typeface="Tahoma"/>
              </a:rPr>
              <a:t>Ecce 6 – Early In The Day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ff"/>
                </a:solidFill>
                <a:latin typeface="Tahoma"/>
              </a:rPr>
              <a:t>Principal Parts and English Derivatives—</a:t>
            </a:r>
            <a:r>
              <a:rPr b="1" lang="en-US" sz="2000" spc="-1" strike="noStrike">
                <a:solidFill>
                  <a:srgbClr val="6600ff"/>
                </a:solidFill>
                <a:latin typeface="Tahoma"/>
              </a:rPr>
              <a:t>Prepos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with the accusative case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 d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 villa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 the country ho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 hort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 the ga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per agro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 the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dum lucet, s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rnel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rgit et per villam ambulat.  Adhuc dormiu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pater 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ater et Marc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Etia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xt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rmit neque Corneliam vexat.  Non tamen dormiu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erv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ncilla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m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am surgunt et laborare parant quod Cornelium et Aureli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Nondum lucet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se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Cornel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t 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per villa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mbula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dhuc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rmi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pater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mater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 Marc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Etiam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Sext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rm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neque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rneli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ex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Non tame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rmi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serv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ancilla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Om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am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g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borare pa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od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Cornel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ureli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i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1. Qui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surgi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Cornel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g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2.  Qui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dormiunt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Pater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 mater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 Marcus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Tahoma"/>
              </a:rPr>
              <a:t>e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</a:rPr>
              <a:t>Sextus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rmi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.B. Quis…?=Who..? For o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…?=Who..? For tw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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nelia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ancillam, nomine Syram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servat quae villam purgat e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alteram, nom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Thressam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e cibum coquere parat.  Multi servi mox in agros currunt ubi stren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orant.  </a:t>
            </a: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qu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e rivo in vill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ort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3. Quid faciunt servi et ancilla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bor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4.  Quid servi e rivo in villam port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qu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ort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am surgunt Cornelius et Aurelia.  Cornelius petit Davum qui in horto est.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Iratus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ito est Cornelius.  Davum reprehendi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qu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 arbore sedet neque laborat.  Davu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bi Cornelium audit, statim surgit et laborare par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5. Cur Cornelius </a:t>
            </a: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irat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ahoma"/>
              </a:rPr>
              <a:t>Irat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 Cornelius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qu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vus non labor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relia Corneliam doce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villam curar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ncillae villam purgant, cibum coquun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am trahunt.  Reprehendunt Aurelia ancillas si ignavae sunt.  Matrem observat Cornelia 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a quae mater facit facere parat.  Matrem adiuvare vult, sed ipsa neque servum ne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illam reprehendit.  Servi et ancillae nunc strenue laborant.  Necesse est neque servu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8a8ad8"/>
              </a:buClr>
              <a:buSzPct val="65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que ancillam reprehend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6. Quid Aurelia Corneliam doce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relia Corneliam docet </a:t>
            </a:r>
            <a:r>
              <a:rPr b="0" lang="en-US" sz="2400" spc="-1" strike="noStrike">
                <a:solidFill>
                  <a:srgbClr val="ff00ff"/>
                </a:solidFill>
                <a:latin typeface="Tahoma"/>
              </a:rPr>
              <a:t>villam cur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21:24:02Z</dcterms:created>
  <dc:creator>Bellos Nisan</dc:creator>
  <dc:description/>
  <dc:language>en-US</dc:language>
  <cp:lastModifiedBy>Bellos Nisan</cp:lastModifiedBy>
  <dcterms:modified xsi:type="dcterms:W3CDTF">2009-10-12T05:57:29Z</dcterms:modified>
  <cp:revision>10</cp:revision>
  <dc:subject/>
  <dc:title>Ecce 6 – Early In The Day </dc:title>
</cp:coreProperties>
</file>